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F02-E555-4A3F-8B4F-6BC3810F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E6A-3E99-44F8-87AB-0A65658A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D2A-1113-427E-9E74-6CC00B41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D21-024E-40BE-9DB2-6AD4D527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FB5-C7B4-45B2-8B9C-0B3F64BF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1088-3DB9-426A-BF04-C61D9E68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C870-08F6-4180-9096-C55064BC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CFB-0445-4BD6-A7AF-881A4F37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9FB3-EBC4-45DE-B8DB-EA88E471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001F-FB67-4179-AF0F-D0493010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D9DB-24DB-4480-8907-E756A91E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702-C798-48F9-B1ED-5654D586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201A-B26A-4183-8B7C-D169B0E8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1C47-38AB-4231-B70B-BA90D026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C0BA-DFC0-46B2-99D4-9D8B07B7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CFBE-30B4-46FF-AFD3-63A6D017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836C-A349-4FDC-877F-4ADD0EDE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7984-5244-4811-BCC5-01CA814C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8C18-6CA9-4E4B-9944-B4BE6ACC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6FE5-1690-44EF-B7BB-DCA16C86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5B02-ADD9-41AF-A2AB-016C8838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80CE-20D9-468F-B276-D25BF012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B11-7154-4740-A432-269F632A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D615-CFE2-4AE9-A42E-10D7F71C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017A-95A4-4831-82A2-EA7F9A7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3B5D-BBE2-413F-B833-207091E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7448-0EFA-4C67-9A96-0A6E421F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039B-BF9A-44A0-961F-3677794D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173F-365C-4F71-80FB-46B9FE28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E4E4-5497-4521-B821-6071BFA3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9E5BD-8AED-4800-906A-CC6D1DD0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FC20-A1DA-4AAE-9277-1C817D19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E224-DF9A-42DE-B917-3CE04EB9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A7B-99D8-4433-8A99-37041B05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9278-497F-4244-AB75-C571EDF9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2F865-8D57-4EE5-A25C-5D9633AF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EF64-78D9-432E-B984-66A6D03F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259C-6E25-429A-98E4-5411D92D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8CFF7-8F02-4CE0-A1D9-E985812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E094-162E-4C93-96C0-8E9D8D0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32CA-0C9C-4B86-AE34-F0CC1111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B008-48CC-461A-8CFE-05A86245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704C-9104-468B-BEF8-C3D405FE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CD5-CABB-456C-8574-D76128A5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F34-ACD2-4DA3-A081-6FC73FBB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5A7-5C2B-4E3F-B2C4-B38CA6CA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F37-183C-4660-847B-2134ED6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1B6-5BCA-4338-A9D8-FAF8117B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3BA60-BCFF-46B6-9E28-3A8087ACC36D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364C7-C789-4DD9-A0F7-CA389E5ABD54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8F36B-669D-4763-806B-EDF5201C9E1B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BFC97-69B4-4986-B064-C9D045857C25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520" y="1447560"/>
            <a:ext cx="73054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1" lang="sr-RS" sz="4000" spc="-1" strike="noStrike">
                <a:solidFill>
                  <a:srgbClr val="1e5155"/>
                </a:solidFill>
                <a:latin typeface="Calibri"/>
              </a:rPr>
              <a:t>МЕЗИО-ОКЛУЗО-ДИСТАЛНОГ (МОД) КАВИТЕТА</a:t>
            </a:r>
            <a:endParaRPr b="0" lang="en-US" sz="40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ПРЕПАРАЦИЈА КАВИТЕТА МОД НА ПРЕМОЛАРИМА И МОЛАРИМА. МОД КАВИТЕТ НА ЗУБУ СА ВИТАЛНОМ ПУЛПОМ. МОД КАВИТЕТ НА ДЕПУЛПИСАНОМ ЗУБ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Д кавитети су последица велике каријесне деструкције тако да с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идови ослабљени и  подложнији фракту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4683240" y="3065400"/>
            <a:ext cx="4038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 би се остварил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орма отпо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Д кавитета потребн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 препарацију укључити ослабљене зидов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ји су подложни фрактури у функцији жвакања  и тако их заштитити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јачати материјал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1027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30400" y="3903840"/>
            <a:ext cx="2438280" cy="2205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28" descr=""/>
          <p:cNvPicPr/>
          <p:nvPr/>
        </p:nvPicPr>
        <p:blipFill>
          <a:blip r:embed="rId2"/>
          <a:stretch/>
        </p:blipFill>
        <p:spPr>
          <a:xfrm>
            <a:off x="4057560" y="3579840"/>
            <a:ext cx="4284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e5155"/>
                </a:solidFill>
                <a:latin typeface="Calibri"/>
              </a:rPr>
              <a:t>ЗИДОВИ МОД КАВИТЕТА </a:t>
            </a:r>
            <a:br>
              <a:rPr sz="3600"/>
            </a:br>
            <a:r>
              <a:rPr b="0" lang="ru-RU" sz="3600" spc="-1" strike="noStrike">
                <a:solidFill>
                  <a:srgbClr val="1e5155"/>
                </a:solidFill>
                <a:latin typeface="Calibri"/>
              </a:rPr>
              <a:t>НА 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1840" y="1339920"/>
            <a:ext cx="4062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улп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ва аксиј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ва гинги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рални за сва три кав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стибуларни за сва три кав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s030"/>
          <p:cNvPicPr/>
          <p:nvPr/>
        </p:nvPicPr>
        <p:blipFill>
          <a:blip r:embed="rId1"/>
          <a:stretch/>
        </p:blipFill>
        <p:spPr>
          <a:xfrm>
            <a:off x="5257800" y="4067280"/>
            <a:ext cx="3379680" cy="2536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" descr=""/>
          <p:cNvPicPr/>
          <p:nvPr/>
        </p:nvPicPr>
        <p:blipFill>
          <a:blip r:embed="rId2"/>
          <a:stretch/>
        </p:blipFill>
        <p:spPr>
          <a:xfrm>
            <a:off x="5214960" y="1339920"/>
            <a:ext cx="34225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6" name="Picture 2" descr="s011"/>
          <p:cNvPicPr/>
          <p:nvPr/>
        </p:nvPicPr>
        <p:blipFill>
          <a:blip r:embed="rId1"/>
          <a:stretch/>
        </p:blipFill>
        <p:spPr>
          <a:xfrm>
            <a:off x="663480" y="1282680"/>
            <a:ext cx="3903840" cy="2612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s012"/>
          <p:cNvPicPr/>
          <p:nvPr/>
        </p:nvPicPr>
        <p:blipFill>
          <a:blip r:embed="rId2"/>
          <a:stretch/>
        </p:blipFill>
        <p:spPr>
          <a:xfrm>
            <a:off x="4748040" y="1282680"/>
            <a:ext cx="3954600" cy="2612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s013"/>
          <p:cNvPicPr/>
          <p:nvPr/>
        </p:nvPicPr>
        <p:blipFill>
          <a:blip r:embed="rId3"/>
          <a:stretch/>
        </p:blipFill>
        <p:spPr>
          <a:xfrm>
            <a:off x="665280" y="4105440"/>
            <a:ext cx="3902040" cy="2469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s008"/>
          <p:cNvPicPr/>
          <p:nvPr/>
        </p:nvPicPr>
        <p:blipFill>
          <a:blip r:embed="rId4"/>
          <a:srcRect l="0" t="0" r="-790" b="0"/>
          <a:stretch/>
        </p:blipFill>
        <p:spPr>
          <a:xfrm>
            <a:off x="4748040" y="4105440"/>
            <a:ext cx="395784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ВИТАЛНОМ ЗУБУ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З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ЕСТЕТСКЕ ИСПУН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novislajdovi04"/>
          <p:cNvPicPr/>
          <p:nvPr/>
        </p:nvPicPr>
        <p:blipFill>
          <a:blip r:embed="rId1"/>
          <a:stretch/>
        </p:blipFill>
        <p:spPr>
          <a:xfrm>
            <a:off x="477720" y="2163600"/>
            <a:ext cx="3981600" cy="3571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noviSlajdovi11"/>
          <p:cNvPicPr/>
          <p:nvPr/>
        </p:nvPicPr>
        <p:blipFill>
          <a:blip r:embed="rId2"/>
          <a:stretch/>
        </p:blipFill>
        <p:spPr>
          <a:xfrm>
            <a:off x="4683240" y="2163600"/>
            <a:ext cx="4046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noviSlajdovi12"/>
          <p:cNvPicPr/>
          <p:nvPr/>
        </p:nvPicPr>
        <p:blipFill>
          <a:blip r:embed="rId1"/>
          <a:stretch/>
        </p:blipFill>
        <p:spPr>
          <a:xfrm>
            <a:off x="763560" y="2639880"/>
            <a:ext cx="4103640" cy="2820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model01"/>
          <p:cNvPicPr/>
          <p:nvPr/>
        </p:nvPicPr>
        <p:blipFill>
          <a:blip r:embed="rId2"/>
          <a:stretch/>
        </p:blipFill>
        <p:spPr>
          <a:xfrm>
            <a:off x="5249880" y="2639880"/>
            <a:ext cx="33447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358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АВИТАЛНОМ ЗУБУ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1840" y="1339920"/>
            <a:ext cx="838836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 би се уклонило пулпно ткиво неопходн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жртвовање здраве зубне супстан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о доводи до слабљења преосталог зубног ткив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depulpisaniMOD"/>
          <p:cNvPicPr/>
          <p:nvPr/>
        </p:nvPicPr>
        <p:blipFill>
          <a:blip r:embed="rId1"/>
          <a:stretch/>
        </p:blipFill>
        <p:spPr>
          <a:xfrm>
            <a:off x="4932360" y="3141720"/>
            <a:ext cx="3778200" cy="34988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322200" y="2906640"/>
            <a:ext cx="4400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леђ и дентин су код депулписаних зуба кртиј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бог промена у метаболизму после уклањања пулпе тако да су зидов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дложнији прелом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1e5155"/>
                </a:solidFill>
                <a:latin typeface="Calibri"/>
              </a:rPr>
              <a:t>ПРЕПАРАЦИЈА МОД КАВИТЕТА</a:t>
            </a:r>
            <a:endParaRPr b="0" lang="en-US" sz="44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43000" y="1467000"/>
            <a:ext cx="35812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 ВИТАЛНОМ ЗУБ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чувана пул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MODPrep"/>
          <p:cNvPicPr/>
          <p:nvPr/>
        </p:nvPicPr>
        <p:blipFill>
          <a:blip r:embed="rId1"/>
          <a:stretch/>
        </p:blipFill>
        <p:spPr>
          <a:xfrm>
            <a:off x="208080" y="2681280"/>
            <a:ext cx="4284720" cy="417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depulpisaniMOD"/>
          <p:cNvPicPr/>
          <p:nvPr/>
        </p:nvPicPr>
        <p:blipFill>
          <a:blip r:embed="rId2"/>
          <a:stretch/>
        </p:blipFill>
        <p:spPr>
          <a:xfrm>
            <a:off x="4643280" y="2708280"/>
            <a:ext cx="4230720" cy="4149720"/>
          </a:xfrm>
          <a:prstGeom prst="rect">
            <a:avLst/>
          </a:prstGeom>
          <a:ln w="0">
            <a:noFill/>
          </a:ln>
        </p:spPr>
      </p:pic>
      <p:sp>
        <p:nvSpPr>
          <p:cNvPr id="240" name="Content Placeholder 2"/>
          <p:cNvSpPr/>
          <p:nvPr/>
        </p:nvSpPr>
        <p:spPr>
          <a:xfrm>
            <a:off x="4560840" y="1467000"/>
            <a:ext cx="357984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 АВИТАЛНОМ ЗУБ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улписан зу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21840" y="1339920"/>
            <a:ext cx="838836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орма отпо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идова је најугроженија код кавитета МОД депулписаних зуб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и заштите ослабљених оралних и вестибуларних зидова укључити их у препарациј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скраћивањем 2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према централној фисури брусеви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depulpisaniMOD"/>
          <p:cNvPicPr/>
          <p:nvPr/>
        </p:nvPicPr>
        <p:blipFill>
          <a:blip r:embed="rId1"/>
          <a:stretch/>
        </p:blipFill>
        <p:spPr>
          <a:xfrm>
            <a:off x="6022800" y="4030560"/>
            <a:ext cx="2859120" cy="2598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" descr=""/>
          <p:cNvPicPr/>
          <p:nvPr/>
        </p:nvPicPr>
        <p:blipFill>
          <a:blip r:embed="rId2"/>
          <a:stretch/>
        </p:blipFill>
        <p:spPr>
          <a:xfrm>
            <a:off x="2490840" y="4030560"/>
            <a:ext cx="32734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2200" y="1339560"/>
            <a:ext cx="83455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кривањем амалгам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ли одговарајућим материјалом бочни зидови ће би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јачани и повољније оптерећ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1028" descr=""/>
          <p:cNvPicPr/>
          <p:nvPr/>
        </p:nvPicPr>
        <p:blipFill>
          <a:blip r:embed="rId1"/>
          <a:stretch/>
        </p:blipFill>
        <p:spPr>
          <a:xfrm>
            <a:off x="4711680" y="2889360"/>
            <a:ext cx="4140360" cy="29970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3"/>
          <p:cNvSpPr/>
          <p:nvPr/>
        </p:nvSpPr>
        <p:spPr>
          <a:xfrm>
            <a:off x="322200" y="30160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Хоризонталне силе су неутралиса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р је онемогућено да испун делује као клин између вестибуларног и оралног зида кавитет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22200" y="1339560"/>
            <a:ext cx="83455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ма биолошки облик кавитета јер нема пулп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ма пулпни, нити аксијалне зид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22200" y="3016080"/>
            <a:ext cx="457200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два гингивна з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стибуларн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алн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је су гризне површине укључене у препарацију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8" name="Picture 2" descr="depulpisaniMOD"/>
          <p:cNvPicPr/>
          <p:nvPr/>
        </p:nvPicPr>
        <p:blipFill>
          <a:blip r:embed="rId1"/>
          <a:stretch/>
        </p:blipFill>
        <p:spPr>
          <a:xfrm>
            <a:off x="4894200" y="3081240"/>
            <a:ext cx="36482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ВИТАЛНОМ ЗУБУ ЗА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АМАЛГАМСКИ ИСПУН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2200" y="1466640"/>
            <a:ext cx="82742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а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е округлим дијамантским или карбидним сврдлом с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клузалне површи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вентивна екстензиј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 изводи фисурним дијамантским тако да се преко гризне површин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пајају обе апроксималне лезиј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ање рубов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сурним конич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s027"/>
          <p:cNvPicPr/>
          <p:nvPr/>
        </p:nvPicPr>
        <p:blipFill>
          <a:blip r:embed="rId1"/>
          <a:stretch/>
        </p:blipFill>
        <p:spPr>
          <a:xfrm>
            <a:off x="5748480" y="4309920"/>
            <a:ext cx="33955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2200" y="1466640"/>
            <a:ext cx="82742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витет захвата три површине и састоји се од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 кавите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ја су међусобно повезана у једну целину која има облик се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s013"/>
          <p:cNvPicPr/>
          <p:nvPr/>
        </p:nvPicPr>
        <p:blipFill>
          <a:blip r:embed="rId1"/>
          <a:stretch/>
        </p:blipFill>
        <p:spPr>
          <a:xfrm>
            <a:off x="322200" y="3220920"/>
            <a:ext cx="3917880" cy="2936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" descr=""/>
          <p:cNvPicPr/>
          <p:nvPr/>
        </p:nvPicPr>
        <p:blipFill>
          <a:blip r:embed="rId2"/>
          <a:stretch/>
        </p:blipFill>
        <p:spPr>
          <a:xfrm>
            <a:off x="4479840" y="3220920"/>
            <a:ext cx="43005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1840" y="1466640"/>
            <a:ext cx="63896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вентивна екстензиј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оклузалног кавите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води се укључивањем свих фисура и јамиц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апроксимално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кстензијом вестибуларног и оралног зида ван интерденталног простора и 0,5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убгингивно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зузет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је горњи први молар са израженом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crista transversa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д постоје два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s025"/>
          <p:cNvPicPr/>
          <p:nvPr/>
        </p:nvPicPr>
        <p:blipFill>
          <a:blip r:embed="rId1"/>
          <a:stretch/>
        </p:blipFill>
        <p:spPr>
          <a:xfrm>
            <a:off x="6711840" y="1893960"/>
            <a:ext cx="2160720" cy="1946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model01"/>
          <p:cNvPicPr/>
          <p:nvPr/>
        </p:nvPicPr>
        <p:blipFill>
          <a:blip r:embed="rId2"/>
          <a:stretch/>
        </p:blipFill>
        <p:spPr>
          <a:xfrm>
            <a:off x="6711840" y="4138560"/>
            <a:ext cx="2160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1840" y="1466640"/>
            <a:ext cx="857268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етен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 постиж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убином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о оклузалног тако и апроксималних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гативним аксијални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лама супротставља с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уб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авитета и трење између бочних зидова 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22200" y="3949560"/>
            <a:ext cx="535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ва тр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улпни и оба гингивна зида морају би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авни и  водоравни и у дентину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1"/>
          <a:stretch/>
        </p:blipFill>
        <p:spPr>
          <a:xfrm>
            <a:off x="6251400" y="3240000"/>
            <a:ext cx="2578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1840" y="2867040"/>
            <a:ext cx="59324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езио-дисталним силам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ротстављају с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истмус и аксијални зидови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ји морају бити паралелни са уздужном осовином зуба и налазе се између пулпног и гингивног зида градећи вертикални зид степеник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9" descr=""/>
          <p:cNvPicPr/>
          <p:nvPr/>
        </p:nvPicPr>
        <p:blipFill>
          <a:blip r:embed="rId1"/>
          <a:stretch/>
        </p:blipFill>
        <p:spPr>
          <a:xfrm>
            <a:off x="6251400" y="3238560"/>
            <a:ext cx="2578320" cy="32367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"/>
          <p:cNvSpPr/>
          <p:nvPr/>
        </p:nvSpPr>
        <p:spPr>
          <a:xfrm>
            <a:off x="322200" y="1467000"/>
            <a:ext cx="850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лама које делују 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тибулооралном правц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ротстављају с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тибуларни и орални зидов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ва тр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епенаст прела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клузалног кавитета у два апроксимална представљ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иолошки облик који обезбеђује интегритет пул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MODPrep"/>
          <p:cNvPicPr/>
          <p:nvPr/>
        </p:nvPicPr>
        <p:blipFill>
          <a:blip r:embed="rId1"/>
          <a:stretch/>
        </p:blipFill>
        <p:spPr>
          <a:xfrm>
            <a:off x="4826160" y="311148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23:28Z</dcterms:created>
  <dc:creator>Miloš Papić</dc:creator>
  <dc:description/>
  <dc:language>en-US</dc:language>
  <cp:lastModifiedBy>Miloš Papić</cp:lastModifiedBy>
  <dcterms:modified xsi:type="dcterms:W3CDTF">2016-10-11T20:55:30Z</dcterms:modified>
  <cp:revision>480</cp:revision>
  <dc:subject/>
  <dc:title>Каријес зуба</dc:title>
</cp:coreProperties>
</file>