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ECB-924A-4620-806E-F4606004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15B-7DA0-4A69-B05D-82053698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2A3-E8A7-427B-B23C-D2BC77C0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6BF-EFB0-494C-8C3B-15C53647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9F7C-0145-4AB7-AA4A-3FCD7665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D98A-111A-4FE4-BFA7-6057506B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6ADE-9A39-42DF-B315-C88EDA98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EF5D-1757-4B24-BCF2-93E22D71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FDBF-95C7-47CD-9C4A-D57CE7C2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8C4F-94DD-41B0-80BA-ED31E9C0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703C-CED5-41F0-9420-C81E649E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213-0BA4-4DD3-BD6A-5E367335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D927-1D8C-4006-8353-A6455E3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C751-75A4-4589-B139-70346AF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EB74-0335-4859-A13E-7C11A68A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DEC8-7201-4C98-A324-0AF3ED49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2E6A-CD8D-4CFC-B9E6-5C43FB2F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F7B5-3C51-4335-863F-DD8F02ED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9613-A440-41BF-AEDE-35BCB7FE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B7149-E3DF-443D-B033-F7C51A7B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37EDF-C84A-4F41-B0F3-D1DBC4D8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0EA8-3CBA-4396-965F-638D1712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E89-BEC2-4F4E-A8C9-58C55808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F4C2-C4EF-405C-9684-D8FB2AB7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7D52C-7F63-443F-BA98-1D765BE7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7B91C-697E-44FE-B009-3FE17A7B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6FBD-0BB2-4B47-BFC8-DB9994E5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C8B51-D431-4B6A-80F7-00E66339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E9BF-19C2-4CD4-9526-F14BB1AD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D2A1-0510-4968-8482-B469F3C6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B4423-7D68-472B-B3A3-D499562A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423E7-A71A-4CE2-9214-C2ACD2C4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8A4E1-EC79-4AA1-8BE8-B2653546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140-6E7F-4D09-933D-92B47728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E83FC-840D-42CA-8C00-368B852C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AC800-B047-4F38-9544-9FB793C5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F852-D7CE-40E3-9131-2C245933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0A091-3871-49F1-AD8B-544C8B15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6BCC0-0D58-4235-B671-ED06A442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E2532-33F5-4FDF-9790-581C235C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C93D2-092C-4A37-A670-2EB3102F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2F620-958B-4F26-9EFA-CFAAE159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ABE50-5DAB-4CD0-9B13-DA76FA34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C53-879E-49BF-8A78-B1874208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CD2-8D19-467B-9E17-664F57D5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00C-F476-4C77-815B-1D5B791E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863-1634-433C-8FD2-DF4071DC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47A-2103-4D7A-927D-0E61E3AA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E2BC9-04C7-4A1D-9A97-5629FF35E14C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E5EC9-022E-4058-BC3E-11E27A396DD0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40568-28C5-4666-9B41-A468DB10BDCF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DFCDB-ED6C-42F7-99BA-0AD5C05C9D4D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520" y="1447560"/>
            <a:ext cx="73054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1" lang="sr-RS" sz="4000" spc="-1" strike="noStrike">
                <a:solidFill>
                  <a:srgbClr val="1e5155"/>
                </a:solidFill>
                <a:latin typeface="Calibri"/>
              </a:rPr>
              <a:t>МЕЗИО-ОКЛУЗО-ДИСТАЛНОГ (МОД) КАВИТЕТА</a:t>
            </a:r>
            <a:endParaRPr b="0" lang="en-US" sz="40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ПРЕПАРАЦИЈА КАВИТЕТА МОД НА ПРЕМОЛАРИМА И МОЛАРИМА. МОД КАВИТЕТ НА ЗУБУ СА ВИТАЛНОМ ПУЛПОМ. МОД КАВИТЕТ НА ДЕПУЛПИСАНОМ ЗУБУ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Д кавитети су последица велике каријесне деструкције тако да с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идови ослабљени и  подложнији фракту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4683240" y="3065400"/>
            <a:ext cx="40384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а би се остварил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форма отпо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Д кавитета потребно 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 препарацију укључити ослабљене зидов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ји су подложни фрактури у функцији жвакања  и тако их заштитити 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јачати материјал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1027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30400" y="3903840"/>
            <a:ext cx="2438280" cy="2205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28" descr=""/>
          <p:cNvPicPr/>
          <p:nvPr/>
        </p:nvPicPr>
        <p:blipFill>
          <a:blip r:embed="rId2"/>
          <a:stretch/>
        </p:blipFill>
        <p:spPr>
          <a:xfrm>
            <a:off x="4057560" y="3579840"/>
            <a:ext cx="4284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e5155"/>
                </a:solidFill>
                <a:latin typeface="Calibri"/>
              </a:rPr>
              <a:t>ЗИДОВИ МОД КАВИТЕТА </a:t>
            </a:r>
            <a:br>
              <a:rPr sz="3600"/>
            </a:br>
            <a:r>
              <a:rPr b="0" lang="ru-RU" sz="3600" spc="-1" strike="noStrike">
                <a:solidFill>
                  <a:srgbClr val="1e5155"/>
                </a:solidFill>
                <a:latin typeface="Calibri"/>
              </a:rPr>
              <a:t>НА 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1840" y="1339920"/>
            <a:ext cx="4062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улп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ва аксиј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ва гинги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рални за сва три кав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стибуларни за сва три кав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s030"/>
          <p:cNvPicPr/>
          <p:nvPr/>
        </p:nvPicPr>
        <p:blipFill>
          <a:blip r:embed="rId1"/>
          <a:stretch/>
        </p:blipFill>
        <p:spPr>
          <a:xfrm>
            <a:off x="5257800" y="4067280"/>
            <a:ext cx="3379680" cy="2536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" descr=""/>
          <p:cNvPicPr/>
          <p:nvPr/>
        </p:nvPicPr>
        <p:blipFill>
          <a:blip r:embed="rId2"/>
          <a:stretch/>
        </p:blipFill>
        <p:spPr>
          <a:xfrm>
            <a:off x="5214960" y="1339920"/>
            <a:ext cx="34225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6" name="Picture 2" descr="s011"/>
          <p:cNvPicPr/>
          <p:nvPr/>
        </p:nvPicPr>
        <p:blipFill>
          <a:blip r:embed="rId1"/>
          <a:stretch/>
        </p:blipFill>
        <p:spPr>
          <a:xfrm>
            <a:off x="663480" y="1282680"/>
            <a:ext cx="3903840" cy="2612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s012"/>
          <p:cNvPicPr/>
          <p:nvPr/>
        </p:nvPicPr>
        <p:blipFill>
          <a:blip r:embed="rId2"/>
          <a:stretch/>
        </p:blipFill>
        <p:spPr>
          <a:xfrm>
            <a:off x="4748040" y="1282680"/>
            <a:ext cx="3954600" cy="2612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s013"/>
          <p:cNvPicPr/>
          <p:nvPr/>
        </p:nvPicPr>
        <p:blipFill>
          <a:blip r:embed="rId3"/>
          <a:stretch/>
        </p:blipFill>
        <p:spPr>
          <a:xfrm>
            <a:off x="665280" y="4105440"/>
            <a:ext cx="3902040" cy="2469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s008"/>
          <p:cNvPicPr/>
          <p:nvPr/>
        </p:nvPicPr>
        <p:blipFill>
          <a:blip r:embed="rId4"/>
          <a:srcRect l="0" t="0" r="-790" b="0"/>
          <a:stretch/>
        </p:blipFill>
        <p:spPr>
          <a:xfrm>
            <a:off x="4748040" y="4105440"/>
            <a:ext cx="395784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00512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ПРЕПАРАЦИЈ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МОД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КАВИТЕТ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НА ВИТАЛНОМ ЗУБУ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З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ЕСТЕТСКЕ ИСПУН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ЕСТЕТСКЕ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novislajdovi04"/>
          <p:cNvPicPr/>
          <p:nvPr/>
        </p:nvPicPr>
        <p:blipFill>
          <a:blip r:embed="rId1"/>
          <a:stretch/>
        </p:blipFill>
        <p:spPr>
          <a:xfrm>
            <a:off x="477720" y="2163600"/>
            <a:ext cx="3981600" cy="3571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noviSlajdovi11"/>
          <p:cNvPicPr/>
          <p:nvPr/>
        </p:nvPicPr>
        <p:blipFill>
          <a:blip r:embed="rId2"/>
          <a:stretch/>
        </p:blipFill>
        <p:spPr>
          <a:xfrm>
            <a:off x="4683240" y="2163600"/>
            <a:ext cx="4046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ЕСТЕТСКЕ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4" descr="noviSlajdovi12"/>
          <p:cNvPicPr/>
          <p:nvPr/>
        </p:nvPicPr>
        <p:blipFill>
          <a:blip r:embed="rId1"/>
          <a:stretch/>
        </p:blipFill>
        <p:spPr>
          <a:xfrm>
            <a:off x="763560" y="2639880"/>
            <a:ext cx="4103640" cy="2820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model01"/>
          <p:cNvPicPr/>
          <p:nvPr/>
        </p:nvPicPr>
        <p:blipFill>
          <a:blip r:embed="rId2"/>
          <a:stretch/>
        </p:blipFill>
        <p:spPr>
          <a:xfrm>
            <a:off x="5249880" y="2639880"/>
            <a:ext cx="33447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ЕСТЕТСКЕ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358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00512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ПРЕПАРАЦИЈ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МОД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КАВИТЕТ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НА АВИТАЛНОМ ЗУБУ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21840" y="1339920"/>
            <a:ext cx="838836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а би се уклонило пулпно ткиво неопходно 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жртвовање здраве зубне супстанц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што доводи до слабљења преосталог зубног ткив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depulpisaniMOD"/>
          <p:cNvPicPr/>
          <p:nvPr/>
        </p:nvPicPr>
        <p:blipFill>
          <a:blip r:embed="rId1"/>
          <a:stretch/>
        </p:blipFill>
        <p:spPr>
          <a:xfrm>
            <a:off x="4932360" y="3141720"/>
            <a:ext cx="3778200" cy="34988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"/>
          <p:cNvSpPr/>
          <p:nvPr/>
        </p:nvSpPr>
        <p:spPr>
          <a:xfrm>
            <a:off x="322200" y="2906640"/>
            <a:ext cx="440064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леђ и дентин су код депулписаних зуба кртиј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бог промена у метаболизму после уклањања пулпе тако да су зидов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дложнији прелом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1e5155"/>
                </a:solidFill>
                <a:latin typeface="Calibri"/>
              </a:rPr>
              <a:t>ПРЕПАРАЦИЈА МОД КАВИТЕТА</a:t>
            </a:r>
            <a:endParaRPr b="0" lang="en-US" sz="44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43000" y="1467000"/>
            <a:ext cx="35812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А ВИТАЛНОМ ЗУБ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чувана пул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MODPrep"/>
          <p:cNvPicPr/>
          <p:nvPr/>
        </p:nvPicPr>
        <p:blipFill>
          <a:blip r:embed="rId1"/>
          <a:stretch/>
        </p:blipFill>
        <p:spPr>
          <a:xfrm>
            <a:off x="208080" y="2681280"/>
            <a:ext cx="4284720" cy="4176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depulpisaniMOD"/>
          <p:cNvPicPr/>
          <p:nvPr/>
        </p:nvPicPr>
        <p:blipFill>
          <a:blip r:embed="rId2"/>
          <a:stretch/>
        </p:blipFill>
        <p:spPr>
          <a:xfrm>
            <a:off x="4643280" y="2708280"/>
            <a:ext cx="4230720" cy="4149720"/>
          </a:xfrm>
          <a:prstGeom prst="rect">
            <a:avLst/>
          </a:prstGeom>
          <a:ln w="0">
            <a:noFill/>
          </a:ln>
        </p:spPr>
      </p:pic>
      <p:sp>
        <p:nvSpPr>
          <p:cNvPr id="240" name="Content Placeholder 2"/>
          <p:cNvSpPr/>
          <p:nvPr/>
        </p:nvSpPr>
        <p:spPr>
          <a:xfrm>
            <a:off x="4560840" y="1467000"/>
            <a:ext cx="357984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А АВИТАЛНОМ ЗУБ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пулписан зу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21840" y="1339920"/>
            <a:ext cx="838836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Форма отпо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идова је најугроженија код кавитета МОД депулписаних зуб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ди заштите ослабљених оралних и вестибуларних зидова укључити их у препарациј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скраћивањем 2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према централној фисури брусевим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depulpisaniMOD"/>
          <p:cNvPicPr/>
          <p:nvPr/>
        </p:nvPicPr>
        <p:blipFill>
          <a:blip r:embed="rId1"/>
          <a:stretch/>
        </p:blipFill>
        <p:spPr>
          <a:xfrm>
            <a:off x="6022800" y="4030560"/>
            <a:ext cx="2859120" cy="2598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" descr=""/>
          <p:cNvPicPr/>
          <p:nvPr/>
        </p:nvPicPr>
        <p:blipFill>
          <a:blip r:embed="rId2"/>
          <a:stretch/>
        </p:blipFill>
        <p:spPr>
          <a:xfrm>
            <a:off x="2490840" y="4030560"/>
            <a:ext cx="32734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22200" y="1339560"/>
            <a:ext cx="834552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кривањем амалгам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ли одговарајућим материјалом бочни зидови ће бит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јачани и повољније оптерећ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1028" descr=""/>
          <p:cNvPicPr/>
          <p:nvPr/>
        </p:nvPicPr>
        <p:blipFill>
          <a:blip r:embed="rId1"/>
          <a:stretch/>
        </p:blipFill>
        <p:spPr>
          <a:xfrm>
            <a:off x="4711680" y="2889360"/>
            <a:ext cx="4140360" cy="29970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3"/>
          <p:cNvSpPr/>
          <p:nvPr/>
        </p:nvSpPr>
        <p:spPr>
          <a:xfrm>
            <a:off x="322200" y="30160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Хоризонталне силе су неутралисан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р је онемогућено да испун делује као клин између вестибуларног и оралног зида кавитет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НА АВИТАЛНОМ ЗУБУ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22200" y="1339560"/>
            <a:ext cx="834552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ма биолошки облик кавитета јер нема пулп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ма пулпни, нити аксијалне зидо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22200" y="3016080"/>
            <a:ext cx="457200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два гингивна зид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стибуларни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алн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је су гризне површине укључене у препарацију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8" name="Picture 2" descr="depulpisaniMOD"/>
          <p:cNvPicPr/>
          <p:nvPr/>
        </p:nvPicPr>
        <p:blipFill>
          <a:blip r:embed="rId1"/>
          <a:stretch/>
        </p:blipFill>
        <p:spPr>
          <a:xfrm>
            <a:off x="4894200" y="3081240"/>
            <a:ext cx="36482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00512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ПРЕПАРАЦИЈ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МОД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КАВИТЕТА </a:t>
            </a:r>
            <a:r>
              <a:rPr b="1" lang="sr-RS" sz="4800" spc="-1" strike="noStrike">
                <a:solidFill>
                  <a:srgbClr val="ffffff"/>
                </a:solidFill>
                <a:latin typeface="Century Gothic"/>
              </a:rPr>
              <a:t>НА ВИТАЛНОМ ЗУБУ ЗА </a:t>
            </a: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АМАЛГАМСКИ ИСПУН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2200" y="1466640"/>
            <a:ext cx="82742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а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е округлим дијамантским или карбидним сврдлом с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клузалне површи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вентивна екстензиј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 изводи фисурним дијамантским тако да се преко гризне површин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пајају обе апроксималне лезиј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ање рубов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сурним конич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s027"/>
          <p:cNvPicPr/>
          <p:nvPr/>
        </p:nvPicPr>
        <p:blipFill>
          <a:blip r:embed="rId1"/>
          <a:stretch/>
        </p:blipFill>
        <p:spPr>
          <a:xfrm>
            <a:off x="5748480" y="4309920"/>
            <a:ext cx="33955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2200" y="1466640"/>
            <a:ext cx="82742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витет захвата три површине и састоји се од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 кавите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ја су међусобно повезана у једну целину која има облик се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s013"/>
          <p:cNvPicPr/>
          <p:nvPr/>
        </p:nvPicPr>
        <p:blipFill>
          <a:blip r:embed="rId1"/>
          <a:stretch/>
        </p:blipFill>
        <p:spPr>
          <a:xfrm>
            <a:off x="322200" y="3220920"/>
            <a:ext cx="3917880" cy="2936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" descr=""/>
          <p:cNvPicPr/>
          <p:nvPr/>
        </p:nvPicPr>
        <p:blipFill>
          <a:blip r:embed="rId2"/>
          <a:stretch/>
        </p:blipFill>
        <p:spPr>
          <a:xfrm>
            <a:off x="4479840" y="3220920"/>
            <a:ext cx="43005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1840" y="1466640"/>
            <a:ext cx="63896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вентивна екстензија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оклузалног кавите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води се укључивањем свих фисура и јамиц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апроксимално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кстензијом вестибуларног и оралног зида ван интерденталног простора и 0,5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убгингивно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зузет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је горњи први молар са израженом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crista transversa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д постоје два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s025"/>
          <p:cNvPicPr/>
          <p:nvPr/>
        </p:nvPicPr>
        <p:blipFill>
          <a:blip r:embed="rId1"/>
          <a:stretch/>
        </p:blipFill>
        <p:spPr>
          <a:xfrm>
            <a:off x="6711840" y="1893960"/>
            <a:ext cx="2160720" cy="1946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model01"/>
          <p:cNvPicPr/>
          <p:nvPr/>
        </p:nvPicPr>
        <p:blipFill>
          <a:blip r:embed="rId2"/>
          <a:stretch/>
        </p:blipFill>
        <p:spPr>
          <a:xfrm>
            <a:off x="6711840" y="4138560"/>
            <a:ext cx="2160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1840" y="1466640"/>
            <a:ext cx="857268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етен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е постиж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убином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ко оклузалног тако и апроксималних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гативним аксијални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лама супротставља с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уб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авитета и трење између бочних зидова и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22200" y="3949560"/>
            <a:ext cx="5351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ва три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пулпни и оба гингивна зида морају бит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авни и  водоравни и у дентину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1"/>
          <a:stretch/>
        </p:blipFill>
        <p:spPr>
          <a:xfrm>
            <a:off x="6251400" y="3240000"/>
            <a:ext cx="25783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1840" y="2867040"/>
            <a:ext cx="593244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езио-дисталним силам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протстављају с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истмус и аксијални зидови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ји морају бити паралелни са уздужном осовином зуба и налазе се између пулпног и гингивног зида градећи вертикални зид степеник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9" descr=""/>
          <p:cNvPicPr/>
          <p:nvPr/>
        </p:nvPicPr>
        <p:blipFill>
          <a:blip r:embed="rId1"/>
          <a:stretch/>
        </p:blipFill>
        <p:spPr>
          <a:xfrm>
            <a:off x="6251400" y="3238560"/>
            <a:ext cx="2578320" cy="32367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"/>
          <p:cNvSpPr/>
          <p:nvPr/>
        </p:nvSpPr>
        <p:spPr>
          <a:xfrm>
            <a:off x="322200" y="1467000"/>
            <a:ext cx="850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лама које делују 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естибулооралном правц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протстављају с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естибуларни и орални зидов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ва три кавитет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МОД КАВИТЕТА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ЗА </a:t>
            </a:r>
            <a:r>
              <a:rPr b="1" lang="en-US" sz="3600" spc="-1" strike="noStrike">
                <a:solidFill>
                  <a:srgbClr val="1e5155"/>
                </a:solidFill>
                <a:latin typeface="Calibri"/>
              </a:rPr>
              <a:t>АМАЛГАМСКЕ ИСПУН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1840" y="1339920"/>
            <a:ext cx="872172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тепенаст прела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клузалног кавитета у два апроксимална представљ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иолошки облик који обезбеђује интегритет пул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MODPrep"/>
          <p:cNvPicPr/>
          <p:nvPr/>
        </p:nvPicPr>
        <p:blipFill>
          <a:blip r:embed="rId1"/>
          <a:stretch/>
        </p:blipFill>
        <p:spPr>
          <a:xfrm>
            <a:off x="4826160" y="3111480"/>
            <a:ext cx="37335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11:23:28Z</dcterms:created>
  <dc:creator>Miloš Papić</dc:creator>
  <dc:description/>
  <dc:language>en-US</dc:language>
  <cp:lastModifiedBy>Miloš Papić</cp:lastModifiedBy>
  <dcterms:modified xsi:type="dcterms:W3CDTF">2016-10-11T20:55:30Z</dcterms:modified>
  <cp:revision>480</cp:revision>
  <dc:subject/>
  <dc:title>Каријес зуба</dc:title>
</cp:coreProperties>
</file>