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3A3D-ABE0-4043-8AE3-5BD4810F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9F14-DF7F-4388-AF1A-4F9FF02B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970-D354-4F6F-9A0A-6F2D446E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79AB-075F-46BE-BAFA-9E983BEC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CDCF-A3E2-4B56-ACDE-FF59142F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84BA-0770-45FA-8937-175F31AF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F4F3-30B7-4BB8-839F-09B9B759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9904-6586-496E-B840-50FC719F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05AB-EEDA-4D42-AFE3-D1716534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5BC4-80A4-40F2-8D2F-E707E8A6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2FCE-6DD2-4AD4-A089-BE79B2E8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9E74-5A03-4929-B6BA-5D352288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A69A-BA5C-44D9-80F7-10050C32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3F38-49BD-4003-8436-0716DBEB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F108-D144-4EF6-8B54-08EE42F0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BC2F-0E01-49D7-9DC2-59C44A58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076E-ECD1-4A4F-AF3B-5866C8BA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6471-DAB8-4829-AB40-E893FAEF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5DD02-5AB1-4BAB-B261-626A92EE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3B22D-C3D1-4655-BD57-89D30027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7C8F4-EFFD-4181-B280-8494CE31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E7D48-74FF-47E8-A4CA-BBA3C0E5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5A9-8D2F-4A9A-A09F-8EE4E85F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2929D-66D4-403D-B5A6-FCFB1CAA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35165-CE62-410B-A0B7-5CA6527F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1FAC1-577C-41D3-84B9-C4115AB3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18C92-AD9C-4596-9479-2EB14738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B0E9E-CF3D-438C-BCE3-E3B75C29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02882-2FAE-4976-942F-E91514E3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DC823-D67F-4943-80C9-0444347F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EA12F-D6C7-497C-B21C-CF1A6814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5D4B0-7050-4D8F-9C0B-9FE846AA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4834F-C452-480B-A1F2-FDA92DE5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B2A-1F11-4EB3-B56D-453F924B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A8492-46C3-4236-86DA-B771B5ED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5B6E8-9D9B-4893-BA8E-7BDC6CFE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CB135-DFF0-4E54-B085-5E45A657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20CED-9F76-4211-B4C2-D24B50ED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8BF71-B52A-41C9-90B2-AE8D1CF1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347AA-7945-405F-974A-53E78077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9D852-71E3-4B14-B661-ECCD1280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464FB-F624-4176-8461-F08D2823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0EA93-08F0-4A7D-B262-3D779FEA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0E2D-5588-44F9-B080-2F1E03C7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FA8-3610-41D3-942A-C387A3CD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8F1-C25D-4347-A0BD-AA7148F9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6BD-929F-49E0-BF3A-42822CD1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71E9-4DB0-42A1-8B88-8DC68959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056B2-DD5E-4374-ACDB-93A2844238F5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f7f7f7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f7f7f7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93A79-50FD-490C-97B5-DEFC02D15096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0F9C3-6541-43A2-9CE1-D999F6F59C85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AF0ED-709A-4B39-994F-F0B6D32A1064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520" y="1447560"/>
            <a:ext cx="73054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1" lang="sr-RS" sz="4000" spc="-1" strike="noStrike">
                <a:solidFill>
                  <a:srgbClr val="1e5155"/>
                </a:solidFill>
                <a:latin typeface="Calibri"/>
              </a:rPr>
              <a:t>МЕЗИО-ОКЛУЗО-ДИСТАЛНОГ (МОД) КАВИТЕТА</a:t>
            </a:r>
            <a:endParaRPr b="0" lang="en-US" sz="40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5828"/>
                </a:solidFill>
                <a:latin typeface="Calibri"/>
              </a:rPr>
              <a:t>ПРЕПАРАЦИЈА КАВИТЕТА МОД НА ПРЕМОЛАРИМА И МОЛАРИМА. МОД КАВИТЕТ НА ЗУБУ СА ВИТАЛНОМ ПУЛПОМ. МОД КАВИТЕТ НА ДЕПУЛПИСАНОМ ЗУБУ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Д кавитети су последица велике каријесне деструкције тако да с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зидови ослабљени и  подложнији фракту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4683240" y="3065400"/>
            <a:ext cx="40384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а би се остварил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форма отпор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Д кавитета потребно ј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 препарацију укључити ослабљене зидов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ји су подложни фрактури у функцији жвакања  и тако их заштитити 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јачати материјал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1027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30400" y="3903840"/>
            <a:ext cx="2438280" cy="2205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28" descr=""/>
          <p:cNvPicPr/>
          <p:nvPr/>
        </p:nvPicPr>
        <p:blipFill>
          <a:blip r:embed="rId2"/>
          <a:stretch/>
        </p:blipFill>
        <p:spPr>
          <a:xfrm>
            <a:off x="4057560" y="3579840"/>
            <a:ext cx="4284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e5155"/>
                </a:solidFill>
                <a:latin typeface="Calibri"/>
              </a:rPr>
              <a:t>ЗИДОВИ МОД КАВИТЕТА </a:t>
            </a:r>
            <a:br>
              <a:rPr sz="3600"/>
            </a:br>
            <a:r>
              <a:rPr b="0" lang="ru-RU" sz="3600" spc="-1" strike="noStrike">
                <a:solidFill>
                  <a:srgbClr val="1e5155"/>
                </a:solidFill>
                <a:latin typeface="Calibri"/>
              </a:rPr>
              <a:t>НА ВИТАЛНОМ ЗУБУ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1840" y="1339920"/>
            <a:ext cx="4062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улп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ва аксијал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ва гинги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рални за сва три кавит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естибуларни за сва три кавит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2" descr="s030"/>
          <p:cNvPicPr/>
          <p:nvPr/>
        </p:nvPicPr>
        <p:blipFill>
          <a:blip r:embed="rId1"/>
          <a:stretch/>
        </p:blipFill>
        <p:spPr>
          <a:xfrm>
            <a:off x="5257800" y="4067280"/>
            <a:ext cx="3379680" cy="2536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" descr=""/>
          <p:cNvPicPr/>
          <p:nvPr/>
        </p:nvPicPr>
        <p:blipFill>
          <a:blip r:embed="rId2"/>
          <a:stretch/>
        </p:blipFill>
        <p:spPr>
          <a:xfrm>
            <a:off x="5214960" y="1339920"/>
            <a:ext cx="342252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76" name="Picture 2" descr="s011"/>
          <p:cNvPicPr/>
          <p:nvPr/>
        </p:nvPicPr>
        <p:blipFill>
          <a:blip r:embed="rId1"/>
          <a:stretch/>
        </p:blipFill>
        <p:spPr>
          <a:xfrm>
            <a:off x="663480" y="1282680"/>
            <a:ext cx="3903840" cy="2612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s012"/>
          <p:cNvPicPr/>
          <p:nvPr/>
        </p:nvPicPr>
        <p:blipFill>
          <a:blip r:embed="rId2"/>
          <a:stretch/>
        </p:blipFill>
        <p:spPr>
          <a:xfrm>
            <a:off x="4748040" y="1282680"/>
            <a:ext cx="3954600" cy="2612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s013"/>
          <p:cNvPicPr/>
          <p:nvPr/>
        </p:nvPicPr>
        <p:blipFill>
          <a:blip r:embed="rId3"/>
          <a:stretch/>
        </p:blipFill>
        <p:spPr>
          <a:xfrm>
            <a:off x="665280" y="4105440"/>
            <a:ext cx="3902040" cy="2469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s008"/>
          <p:cNvPicPr/>
          <p:nvPr/>
        </p:nvPicPr>
        <p:blipFill>
          <a:blip r:embed="rId4"/>
          <a:srcRect l="0" t="0" r="-790" b="0"/>
          <a:stretch/>
        </p:blipFill>
        <p:spPr>
          <a:xfrm>
            <a:off x="4748040" y="4105440"/>
            <a:ext cx="3957840" cy="24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00512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ПРЕПАРАЦИЈ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МОД </a:t>
            </a: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КАВИТЕТ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НА ВИТАЛНОМ ЗУБУ </a:t>
            </a: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З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ЕСТЕТСКЕ ИСПУНЕ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ЕСТЕТСКЕ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4" descr="novislajdovi04"/>
          <p:cNvPicPr/>
          <p:nvPr/>
        </p:nvPicPr>
        <p:blipFill>
          <a:blip r:embed="rId1"/>
          <a:stretch/>
        </p:blipFill>
        <p:spPr>
          <a:xfrm>
            <a:off x="477720" y="2163600"/>
            <a:ext cx="3981600" cy="3571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noviSlajdovi11"/>
          <p:cNvPicPr/>
          <p:nvPr/>
        </p:nvPicPr>
        <p:blipFill>
          <a:blip r:embed="rId2"/>
          <a:stretch/>
        </p:blipFill>
        <p:spPr>
          <a:xfrm>
            <a:off x="4683240" y="2163600"/>
            <a:ext cx="4046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ЕСТЕТСКЕ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4" descr="noviSlajdovi12"/>
          <p:cNvPicPr/>
          <p:nvPr/>
        </p:nvPicPr>
        <p:blipFill>
          <a:blip r:embed="rId1"/>
          <a:stretch/>
        </p:blipFill>
        <p:spPr>
          <a:xfrm>
            <a:off x="763560" y="2639880"/>
            <a:ext cx="4103640" cy="2820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model01"/>
          <p:cNvPicPr/>
          <p:nvPr/>
        </p:nvPicPr>
        <p:blipFill>
          <a:blip r:embed="rId2"/>
          <a:stretch/>
        </p:blipFill>
        <p:spPr>
          <a:xfrm>
            <a:off x="5249880" y="2639880"/>
            <a:ext cx="33447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ЕСТЕТСКЕ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7358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00512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ПРЕПАРАЦИЈ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МОД </a:t>
            </a: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КАВИТЕТ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НА АВИТАЛНОМ ЗУБУ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НА АВИТАЛНОМ ЗУБУ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21840" y="1339920"/>
            <a:ext cx="838836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а би се уклонило пулпно ткиво неопходно ј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жртвовање здраве зубне супстанц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што доводи до слабљења преосталог зубног ткив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depulpisaniMOD"/>
          <p:cNvPicPr/>
          <p:nvPr/>
        </p:nvPicPr>
        <p:blipFill>
          <a:blip r:embed="rId1"/>
          <a:stretch/>
        </p:blipFill>
        <p:spPr>
          <a:xfrm>
            <a:off x="4932360" y="3141720"/>
            <a:ext cx="3778200" cy="34988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2"/>
          <p:cNvSpPr/>
          <p:nvPr/>
        </p:nvSpPr>
        <p:spPr>
          <a:xfrm>
            <a:off x="322200" y="2906640"/>
            <a:ext cx="440064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леђ и дентин су код депулписаних зуба кртиј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бог промена у метаболизму после уклањања пулпе тако да су зидов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дложнији прелому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1e5155"/>
                </a:solidFill>
                <a:latin typeface="Calibri"/>
              </a:rPr>
              <a:t>ПРЕПАРАЦИЈА МОД КАВИТЕТА</a:t>
            </a:r>
            <a:endParaRPr b="0" lang="en-US" sz="44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43000" y="1467000"/>
            <a:ext cx="35812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НА ВИТАЛНОМ ЗУБ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чувана пул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MODPrep"/>
          <p:cNvPicPr/>
          <p:nvPr/>
        </p:nvPicPr>
        <p:blipFill>
          <a:blip r:embed="rId1"/>
          <a:stretch/>
        </p:blipFill>
        <p:spPr>
          <a:xfrm>
            <a:off x="208080" y="2681280"/>
            <a:ext cx="4284720" cy="4176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depulpisaniMOD"/>
          <p:cNvPicPr/>
          <p:nvPr/>
        </p:nvPicPr>
        <p:blipFill>
          <a:blip r:embed="rId2"/>
          <a:stretch/>
        </p:blipFill>
        <p:spPr>
          <a:xfrm>
            <a:off x="4643280" y="2708280"/>
            <a:ext cx="4230720" cy="4149720"/>
          </a:xfrm>
          <a:prstGeom prst="rect">
            <a:avLst/>
          </a:prstGeom>
          <a:ln w="0">
            <a:noFill/>
          </a:ln>
        </p:spPr>
      </p:pic>
      <p:sp>
        <p:nvSpPr>
          <p:cNvPr id="240" name="Content Placeholder 2"/>
          <p:cNvSpPr/>
          <p:nvPr/>
        </p:nvSpPr>
        <p:spPr>
          <a:xfrm>
            <a:off x="4560840" y="1467000"/>
            <a:ext cx="357984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НА АВИТАЛНОМ ЗУБУ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пулписан зуб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НА АВИТАЛНОМ ЗУБУ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21840" y="1339920"/>
            <a:ext cx="838836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Форма отпор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идова је најугроженија код кавитета МОД депулписаних зуб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ади заштите ослабљених оралних и вестибуларних зидова укључити их у препарациј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скраћивањем 2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према централној фисури брусевим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2" descr="depulpisaniMOD"/>
          <p:cNvPicPr/>
          <p:nvPr/>
        </p:nvPicPr>
        <p:blipFill>
          <a:blip r:embed="rId1"/>
          <a:stretch/>
        </p:blipFill>
        <p:spPr>
          <a:xfrm>
            <a:off x="6022800" y="4030560"/>
            <a:ext cx="2859120" cy="2598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" descr=""/>
          <p:cNvPicPr/>
          <p:nvPr/>
        </p:nvPicPr>
        <p:blipFill>
          <a:blip r:embed="rId2"/>
          <a:stretch/>
        </p:blipFill>
        <p:spPr>
          <a:xfrm>
            <a:off x="2490840" y="4030560"/>
            <a:ext cx="32734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НА АВИТАЛНОМ ЗУБУ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22200" y="1339560"/>
            <a:ext cx="8345520" cy="17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екривањем амалгамо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ли одговарајућим материјалом бочни зидови ће бит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јачани и повољније оптереће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1028" descr=""/>
          <p:cNvPicPr/>
          <p:nvPr/>
        </p:nvPicPr>
        <p:blipFill>
          <a:blip r:embed="rId1"/>
          <a:stretch/>
        </p:blipFill>
        <p:spPr>
          <a:xfrm>
            <a:off x="4711680" y="2889360"/>
            <a:ext cx="4140360" cy="299700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3"/>
          <p:cNvSpPr/>
          <p:nvPr/>
        </p:nvSpPr>
        <p:spPr>
          <a:xfrm>
            <a:off x="322200" y="30160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Хоризонталне силе су неутралисан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ер је онемогућено да испун делује као клин између вестибуларног и оралног зида кавитет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НА АВИТАЛНОМ ЗУБУ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22200" y="1339560"/>
            <a:ext cx="8345520" cy="17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ма биолошки облик кавитета јер нема пулп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ма пулпни, нити аксијалне зидо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22200" y="3016080"/>
            <a:ext cx="457200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два гингивна зид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стибуларни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алн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је су гризне површине укључене у препарацију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8" name="Picture 2" descr="depulpisaniMOD"/>
          <p:cNvPicPr/>
          <p:nvPr/>
        </p:nvPicPr>
        <p:blipFill>
          <a:blip r:embed="rId1"/>
          <a:stretch/>
        </p:blipFill>
        <p:spPr>
          <a:xfrm>
            <a:off x="4894200" y="3081240"/>
            <a:ext cx="36482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ВАЛА НА ПАЖЊ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00512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ПРЕПАРАЦИЈ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МОД </a:t>
            </a: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КАВИТЕТ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НА ВИТАЛНОМ ЗУБУ ЗА </a:t>
            </a: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АМАЛГАМСКИ ИСПУН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22200" y="1466640"/>
            <a:ext cx="82742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ар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е округлим дијамантским или карбидним сврдлом с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клузалне површин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вентивна екстензиј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 изводи фисурним дијамантским тако да се преко гризне површин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пајају обе апроксималне лезиј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ање рубов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сурним коничн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s027"/>
          <p:cNvPicPr/>
          <p:nvPr/>
        </p:nvPicPr>
        <p:blipFill>
          <a:blip r:embed="rId1"/>
          <a:stretch/>
        </p:blipFill>
        <p:spPr>
          <a:xfrm>
            <a:off x="5748480" y="4309920"/>
            <a:ext cx="339552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22200" y="1466640"/>
            <a:ext cx="82742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витет захвата три површине и састоји се од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и кавите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ја су међусобно повезана у једну целину која има облик се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s013"/>
          <p:cNvPicPr/>
          <p:nvPr/>
        </p:nvPicPr>
        <p:blipFill>
          <a:blip r:embed="rId1"/>
          <a:stretch/>
        </p:blipFill>
        <p:spPr>
          <a:xfrm>
            <a:off x="322200" y="3220920"/>
            <a:ext cx="3917880" cy="2936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" descr=""/>
          <p:cNvPicPr/>
          <p:nvPr/>
        </p:nvPicPr>
        <p:blipFill>
          <a:blip r:embed="rId2"/>
          <a:stretch/>
        </p:blipFill>
        <p:spPr>
          <a:xfrm>
            <a:off x="4479840" y="3220920"/>
            <a:ext cx="43005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21840" y="1466640"/>
            <a:ext cx="63896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евентивна екстензија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оклузалног кавитет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зводи се укључивањем свих фисура и јамиц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апроксимално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кстензијом вестибуларног и оралног зида ван интерденталног простора и 0,5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убгингивно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зузета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је горњи први молар са израженом 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crista transversa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д постоје два кавитет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s025"/>
          <p:cNvPicPr/>
          <p:nvPr/>
        </p:nvPicPr>
        <p:blipFill>
          <a:blip r:embed="rId1"/>
          <a:stretch/>
        </p:blipFill>
        <p:spPr>
          <a:xfrm>
            <a:off x="6711840" y="1893960"/>
            <a:ext cx="2160720" cy="1946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model01"/>
          <p:cNvPicPr/>
          <p:nvPr/>
        </p:nvPicPr>
        <p:blipFill>
          <a:blip r:embed="rId2"/>
          <a:stretch/>
        </p:blipFill>
        <p:spPr>
          <a:xfrm>
            <a:off x="6711840" y="4138560"/>
            <a:ext cx="21607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21840" y="1466640"/>
            <a:ext cx="857268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Ретен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е постиж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убином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ко оклузалног тако и апроксималних кавитет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егативним аксијални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лама супротставља с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уби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авитета и трење између бочних зидова и кавитет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22200" y="3949560"/>
            <a:ext cx="5351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ва три кавитет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пулпни и оба гингивна зида морају бит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равни и  водоравни и у дентину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56" name="Picture 8" descr=""/>
          <p:cNvPicPr/>
          <p:nvPr/>
        </p:nvPicPr>
        <p:blipFill>
          <a:blip r:embed="rId1"/>
          <a:stretch/>
        </p:blipFill>
        <p:spPr>
          <a:xfrm>
            <a:off x="6251400" y="3240000"/>
            <a:ext cx="257832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1840" y="2867040"/>
            <a:ext cx="593244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Мезио-дисталним силам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упротстављају с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истмус и аксијални зидови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ји морају бити паралелни са уздужном осовином зуба и налазе се између пулпног и гингивног зида градећи вертикални зид степеник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9" descr=""/>
          <p:cNvPicPr/>
          <p:nvPr/>
        </p:nvPicPr>
        <p:blipFill>
          <a:blip r:embed="rId1"/>
          <a:stretch/>
        </p:blipFill>
        <p:spPr>
          <a:xfrm>
            <a:off x="6251400" y="3238560"/>
            <a:ext cx="2578320" cy="32367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1"/>
          <p:cNvSpPr/>
          <p:nvPr/>
        </p:nvSpPr>
        <p:spPr>
          <a:xfrm>
            <a:off x="322200" y="1467000"/>
            <a:ext cx="850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лама које делују 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естибулооралном правц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упротстављају с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естибуларни и орални зидов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ва три кавитет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тепенаст прелаз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клузалног кавитета у два апроксимална представљ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биолошки облик који обезбеђује интегритет пулп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MODPrep"/>
          <p:cNvPicPr/>
          <p:nvPr/>
        </p:nvPicPr>
        <p:blipFill>
          <a:blip r:embed="rId1"/>
          <a:stretch/>
        </p:blipFill>
        <p:spPr>
          <a:xfrm>
            <a:off x="4826160" y="3111480"/>
            <a:ext cx="37335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7T11:23:28Z</dcterms:created>
  <dc:creator>Miloš Papić</dc:creator>
  <dc:description/>
  <dc:language>en-US</dc:language>
  <cp:lastModifiedBy>Miloš Papić</cp:lastModifiedBy>
  <dcterms:modified xsi:type="dcterms:W3CDTF">2016-10-11T20:55:30Z</dcterms:modified>
  <cp:revision>480</cp:revision>
  <dc:subject/>
  <dc:title>Каријес зуба</dc:title>
</cp:coreProperties>
</file>